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7A5E-5258-4A6E-A88F-0A054132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7609-CF90-4B26-8D72-F8D03210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02C4-18F7-4656-92AD-7FFC4C18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62EA-81C8-436E-AEEF-AD02F574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066C-F4B9-45B3-A013-D99F0FFB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92E-836C-4836-B192-DB9F1B2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B2F-DB52-44BC-9A3D-C056D79D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6013-DE1B-45AD-BEA3-709A6FE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FE0E-B9B4-482E-8A3A-6FA7D07D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5F5-4D1A-42F5-BF53-29C603A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0EB-86A5-470C-A71B-563E4B9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A43C-7454-40A9-A662-7A3B63C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2F4-8290-4EB5-BE07-2D4C4A0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E00-A5AC-447A-B8AB-4504BA1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BAE4-7C08-4036-95F1-AB9E298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B8C-DCB0-4829-9CF2-D461C78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DEF2-D104-42A7-B125-C8D21BBD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69C1-0CAE-4098-9B2F-7EB1337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AE75-9BCE-4223-B6CD-8FB56D9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A6E5-B83A-4DBA-B8B1-C17FFDE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E563-09A3-439C-9169-658B814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F70E-905C-4568-9D00-6FAF6C8E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3A4C-A67B-4C57-B958-82C333A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F06B-87A1-4C59-A71E-300D3B6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7F8-B489-4F0B-9C30-8DB7106F1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9A2D-EFD2-4B20-804A-DBE400E8D3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noun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br>
              <a:rPr sz="3600"/>
            </a:b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twins decided to wear _______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oes out of the stor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brother Juan practiced ______ guitar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hours every da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brother Juan practiced ______ guitar f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hours every da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one wants to have _______ identi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 or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one wants to have _______ identit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olen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is or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of the sisters had _______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dro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of the sisters had _______ ow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droo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ter deliberating for only twenty minut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jury reached _______ verdi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fter deliberating for only twenty minutes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jury reached _______ verdic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audience booed when ___ realiz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singer was tone-deaf and hoar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pronou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nou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places nouns or other pronouns in a sentence so that you do not have to repeat them. In the following sentence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 pronoun that replac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gave m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numb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oun or pronoun that a pronoun replaces is called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teced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In the previous sentence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rac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anteceden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audience booed when ___ realized tha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singer was tone-deaf and hoar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of the products we use in Americ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day ______ were manufactured abro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of the products we use in America toda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_____ were manufactured abro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) none of the above; no pronoun is necessary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 this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gave the gift to Sony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gave the gift to Sonya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son likes to make a mess, but ___ hat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 take a bat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son likes to make a mess, but ___ hate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o take a bath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h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Grace explained what was wrong, I was ab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help _____ solve the probl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1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Grace explained what was wrong, I was ab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help _____ solve the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 is very proud of _____ family’s histor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the following points in mind about pronouns. (See your textbook for more specific details and advice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must agree with (match) the noun it refers to in number: Both must be singular (one) or plural (more than one). In the following sentence, the pronou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gree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 Tra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cause both are plura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ou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pronoun refers to a singular noun, it must also match that noun in gender: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masculine nouns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feminine nouns, an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genderless nouns. In the following sentenc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gree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k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cause both are singular and masculin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k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k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ffee ho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efinite pronouns (lik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nybody, everyon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some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often take singular verb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 is very proud of _____ family’s histor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dog brought the ball back to Claudi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3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dog brought the ball back to Claudia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pril and _____ go to the movies ever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turday nigh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4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pril and _____ go to the movies every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turday nigh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a runs faster than 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5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a runs faster than 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students have worked harder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6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students have worked harder thi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mester than _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th comes more easily to Bashar than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oes to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lective nouns (lik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udience, class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grou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are often singular, unless the people in a group are acting separate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should refer to only one noun, and it should be clear what that noun 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CLEA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el told Robert that he had to work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Which one of them had to work?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EAR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el told Robert to wor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ronoun shoul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pla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subject of a sentence, no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pea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CORRECT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tter carrier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ame at no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RRECT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tter carrier came at no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7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th comes more easily to Bashar than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oes to ______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ny Depp is the actor _____ play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dward Scissorhan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ohnny Depp is the actor _____ played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dward Scissorhan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erson with ____ you spoke no long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s at this offi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person with ____ you spoke no longe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rks at this offic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_____ did you get your unique fashi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nse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_____ did you get your unique fashio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nse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o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wh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pronoun serves as the subject of a verb: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h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likes canoe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object pronoun either receives the action of the verb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ol too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to the st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or is part of a prepositional phrase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aul gave the watch to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ve pronouns show ownership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at car is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ine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careful with pronoun usage in the following types of sent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with more than one subject or object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ula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work together. Lula works with Joe an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presenting comparisons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llette drives faster th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 Collette likes Tina more th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The previous sentence mean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llette likes Tina more than she likes 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se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ways a subject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always an object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ick is the man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works at my company. Rick is the man to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whom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 sent the mem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mpany laid off all of ______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mploye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mpany laid off all of __________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mploye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th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) none of the above; the correct answer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s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it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pronoun t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lete this sentence.</a:t>
            </a:r>
            <a:br>
              <a:rPr sz="3600"/>
            </a:b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twins decided to wear _______ new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hoes out of the stor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h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the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their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9:46:59Z</dcterms:modified>
  <cp:revision>218</cp:revision>
  <dc:subject/>
  <dc:title>Sentence Fragments</dc:title>
</cp:coreProperties>
</file>